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B3A7-A04D-4086-9CB1-2ABB58320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3311-F622-4650-A031-245B1677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1026-8F94-4FCD-B14B-800585095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488D-38E7-4960-80AC-45442E713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DC22-AA1A-4A26-878A-1ACAFA0C1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0FCE-39A3-4C97-B057-0E69E49E8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EEFC-6108-4FE8-89A5-AFFE9563C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0A8-35E1-4781-9B92-1FEDD6EB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tion I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cept Development in Mathematics and Scienc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Concepts are Acquired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ldren Lear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learning takes place in meaningful and familiar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dults build upon the chil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knowledge and support the child as he moves to a higher level of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Learning Experi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istic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ld controls choice an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s to the Piagetian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ld controls choice an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ult intervenes at som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s to the Vygotskian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ult chooses the experience and gives some direction for the chil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s to the Vygotskian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ly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late to mod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s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sensory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late to strengths in particular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, ethnicity, social class, gender, out-of-school experiences, and spec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Gardner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ne Intellig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-mathema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ily-kines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ldren with Special Nee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approaches must be taken with each type of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array of learn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create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4:38:06Z</dcterms:modified>
  <cp:revision>76</cp:revision>
  <dc:subject/>
  <dc:title>Slide 1</dc:title>
</cp:coreProperties>
</file>