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F78B-DA51-4F33-AC7A-4ED189302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B7A6-1592-4670-894D-A30EB7E41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BE97-9A71-41B5-A79A-5E7852BC3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CA16-A1EB-4551-A437-96179FFFE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0F2C-5DF8-4045-9FB2-3AE0A896E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51F2-A19C-4BAA-8941-C5AC63B29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8F85-485F-4B9D-A625-6770F7A9E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93E3-8FD3-4D4A-BBC1-520243E39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0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1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4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6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7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9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320040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tion I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cept Development in Mathematics and Scienc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it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sessing the Child</a:t>
            </a: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 Developmental Level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ional Council of Teachers of Mathematics Assessment Princi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2526840"/>
            <a:ext cx="822960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should support the learning of important mathematics and furnish useful information to both teachers and students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CTM, 2000, p. 2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ather information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attitude regarding mathematics and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be integrated into everyday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essment Metho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ified Standards for Assessment in Scienc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—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nsistency of assessments with the decisions they are designed to in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hievement in science must be asses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echnical quality of data collected is well matched to the decisions and actions taken on the basis of their interpre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ssment practices must be fa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ferences made from assessments about student achievement must be s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4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visioned Changes in Empha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emphasis on ass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easily measu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te knowl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tific knowl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learn what students do not kn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mphasis on ass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most highly valu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ch, well-structured knowl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tific understanding and reaso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learn what students do underst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ord Keeping and Repor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necdotal records and check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ful collection of a chil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work which tells a story of the chil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efforts, progress, and achie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05:17Z</dcterms:created>
  <dc:creator>changeme</dc:creator>
  <dc:description/>
  <dc:language>en-US</dc:language>
  <cp:lastModifiedBy>Elizabeth Ruark</cp:lastModifiedBy>
  <dcterms:modified xsi:type="dcterms:W3CDTF">2016-06-09T14:40:09Z</dcterms:modified>
  <cp:revision>76</cp:revision>
  <dc:subject/>
  <dc:title>Slide 1</dc:title>
</cp:coreProperties>
</file>