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6EC3-2B92-45BD-A925-42F2C87B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D0CB-E83A-4EEB-8AB3-B073834D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CB12-92F0-4C73-95E2-AA6B19DE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AE08-A418-405A-9F24-8F8D4F8A2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D7AB-F5F7-4851-9443-04056907E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V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ing Skills, Concepts, and Attitudes for Scientific Investigations in the Primary Grad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ysical Science in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ary Gra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should develop an understand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objects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and motion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children need to understan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can be classified according to observabl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react to other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oring L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need concrete experiences with light to provide the conceptual background for late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should understand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travels in a straight line until it strikes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by a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cted by a l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d by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39:00Z</dcterms:modified>
  <cp:revision>48</cp:revision>
  <dc:subject/>
  <dc:title>Slide 1</dc:title>
</cp:coreProperties>
</file>