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519C-6773-470C-A160-7F6A3220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3446-59E3-4946-BF37-17B62381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802-C7E1-4C41-9765-966F2B7F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A01-B9A8-46DB-AFC8-4F61A9EF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F2FA-DF0A-4F94-A4FE-2FFDDAC9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C61-0FCC-47EF-B92F-D079C025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C3DE-B708-4516-BA84-7B31488A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Basics of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es of Science Inqui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skills and processes necessary to lear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inves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Process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hildren to process new information through concrete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rogressive and build on and overlap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 appropriate for preschool and primary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ing and organiz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phisticated and abstract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ing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ng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ing Scientific Attitudes Used in Inqui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p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lf-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pproach to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Teach Science to Young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not afford not to te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in the development of languag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various opportunities to determ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-and-effec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priate Science Conten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Pre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and spac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and technology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and nature of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cience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41:03Z</dcterms:modified>
  <cp:revision>76</cp:revision>
  <dc:subject/>
  <dc:title>Slide 1</dc:title>
</cp:coreProperties>
</file>