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01FF-9A74-4B53-A500-AF1CAEFC175A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DB38-66CB-4D87-A87B-B6A8D116A867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B80F-A333-43A2-A645-7DE5B96B6272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F5EB-87B0-441D-9D3B-D66A8E1BE0C0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7E0E-E1F6-4DCD-965D-B8F17DB6405D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0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1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4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6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7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9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320040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tion I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undamental Concepts and Skil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1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nguage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pt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ll its aspects, written and oral language, is critical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le Language Philosophy and Mathematics and Sci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s and science empha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emphasis relates naturally to the whole language philosophy in reading and language 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erature, Mathematics, and Sci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literature can be used as a springboard to curriculum integration in mathematics and science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05:17Z</dcterms:created>
  <dc:creator>changeme</dc:creator>
  <dc:description/>
  <dc:language>en-US</dc:language>
  <cp:lastModifiedBy>Elizabeth Ruark</cp:lastModifiedBy>
  <dcterms:modified xsi:type="dcterms:W3CDTF">2016-06-09T15:27:32Z</dcterms:modified>
  <cp:revision>72</cp:revision>
  <dc:subject/>
  <dc:title>Slide 1</dc:title>
</cp:coreProperties>
</file>