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740D-DF40-4657-BF1C-F76A83B52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936E-7ACB-40D4-9319-52BDCDBB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56FF-37DD-4B44-8AD2-D609CEF0E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D19A-2FAC-4D5E-B97E-7D910739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DB44-73B6-4695-879D-C5F920FDC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II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lying Fundamental Concepts, Attitudes, and Skil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-360" y="38095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2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ng the Curriculum through Dramatic Play and Thematic Units and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amatic Pla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hildren to use the concepts and skills they are learning through pl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hildren to practice being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hildren to learn to play coop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solving skills are refined through dramatic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matic Units and Pro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mathematics and science to be integrated with other conten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real life connections for abstrac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opportunities for naturalistic and inform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 for Thematic Un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pics can serve as the focus for a thematic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 and science can be integrated into thes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35:31Z</dcterms:modified>
  <cp:revision>40</cp:revision>
  <dc:subject/>
  <dc:title>Slide 1</dc:title>
</cp:coreProperties>
</file>