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2D77-4357-4C07-B8C6-66202019A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396E-1933-4D09-8023-AF6C772EC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4855-3DF5-4487-9CB3-831908B4C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0861-A844-4AAE-9C64-5941B4942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913C-6FD4-4C6A-BF7B-9C210E084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E9A1-ADBC-49EE-8EBE-5CB65F679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1AE2-6483-4D44-8BC0-B69062128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C34E-8CA7-439C-97E4-7E3DAD744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1A3B-9B75-4697-92E6-D19A0F9BD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EF0F-6CBD-4D4E-B7A5-68081349F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309D-CE78-4840-A142-3B8AFBE5C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EC9C-E2F1-4B7C-9B83-7176CD6A3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1E70-C1D1-4CAA-8612-BBF4B1894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9261-884B-4547-95F0-E96CF7A2D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4A29-7AD2-475D-B19D-BF08864D5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99F6-8C4A-4C66-BD4C-F294196B5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2F2D-2281-4B74-87B5-6C82CD276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EB36-5797-4E93-9B51-138D297D2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1BFE-D164-4862-9181-8B287879C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0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1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4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7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2004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tion I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cept Development in Mathematics and Sci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it 1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Concepts Develop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ional Science Education Standar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d by the National Academy of Scien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National Research Counc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with the major professional organizations in science and individuals who had expertise in writing stand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ional Science Education Standards Docu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six major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Teach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for Professional Development of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in Scie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Content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Education Program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Education System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EYC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for mathematics and science in earl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an Pia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d four periods of cognitive growth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imotor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th to about age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operational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 two to age s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rete oper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seven to age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oper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11 through adult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aget</a:t>
            </a: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 Division of Knowled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-mathematical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v Vygot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d both developmental and environmental forces in cognitive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the concept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one of proxim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between where the child currently operates independently in mental development and where the child might go with assistance from an adult or older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ance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affold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provided by more mature lea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earning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vis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d as a way to take students on a ques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knowledge that leads to construction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 curriculum development procedure and a teaching strate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ust of each phase of the learning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earning Cycle fo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rly Childho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mpasses four repeating proc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Thrust in Mathematics and Science Instr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orm classroom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from traditional drill and practice memorization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 the constructivis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building blocks of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people to organize and categoriz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applied to the solution of new problems in everyda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observed being constructed and used by children in everyday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ept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preprimary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nd begin to apply concepts basic to mathematics and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primary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basic earl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exploring more abstract inquiries in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them understand more complex mathematic concepts such as addition, subtraction, multiplication, and division and to use standard units of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an individual timetable for each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es of steps that each child reac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rmal Range of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who are the same age may be weeks, months, or a year or two apart in reaching various stages and still be within the normal ran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h and Science i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rly Childho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 and science are inter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concepts such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a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ify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su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ski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applied to scienc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cien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ski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serving, communicating, inferring, hypothes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f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olling 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re used for solving problems in both science and 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 of School Mathema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statements that reflect basic rules to guide high-quality mathematics education and describe the overarching themes of mathematics instruction. The principles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ndards for School Mathema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provide guidance as to what children should know and be able to do at different ages and stages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ndards for School Mathema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standards are described for prekindergarten through grade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five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goals for operations, algebra, geometry, measurement, and data analysis and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five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of problem solving, reasoning and proof, communication, connections and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05:17Z</dcterms:created>
  <dc:creator>changeme</dc:creator>
  <dc:description/>
  <dc:language>en-US</dc:language>
  <cp:lastModifiedBy>Elizabeth Ruark</cp:lastModifiedBy>
  <dcterms:modified xsi:type="dcterms:W3CDTF">2016-06-09T14:37:27Z</dcterms:modified>
  <cp:revision>76</cp:revision>
  <dc:subject/>
  <dc:title>Slide 1</dc:title>
</cp:coreProperties>
</file>