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C8DA-856A-4753-ADF0-79F6481C3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67B2-B1BE-4294-B537-4B18975C3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E63E-D29A-49C7-A884-2C4BACABC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E970-48BC-4E44-A26A-5A900A3A0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F8FC-BEF4-4AC5-9F29-108CDD8C1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9A8F-3911-4BEB-8AD9-0690C0420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16E4-FA3C-4714-A202-B94BD0513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0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1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4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6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7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9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320040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1904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tion V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sing Skills, Concepts, and Attitudes for Scientific Investigations in the Primary Grad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 of Primary Sci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ional Science Education Standards for Science Teach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of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an inquiry-base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 and facilitat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 in ongoing assessment of their teaching and of student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nd manage learning environments that provide students with the time, space, and resources needed for learning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ommunities of science learners that reflect the intellectual rigor of scientific inquiry and the attitudes and social values conducive to scienc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ly participate in the ongoing planning and development of the school scie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lec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children love to col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is inclination to encou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agnifiers for collecting and classif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ience Investigations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s-on Sci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begin with a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question, children make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the children consider the factors (variables) that may affect the outcome by asking more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records of observations, results, procedures, information obtained, and measurements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if the original prediction (hypothesis) was rej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k more quest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—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t happen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aging the Classro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children fo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materials fo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hance log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cognize rules for patterns and 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cument and enhance science invest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05:17Z</dcterms:created>
  <dc:creator>changeme</dc:creator>
  <dc:description/>
  <dc:language>en-US</dc:language>
  <cp:lastModifiedBy>Elizabeth Ruark</cp:lastModifiedBy>
  <dcterms:modified xsi:type="dcterms:W3CDTF">2016-06-09T15:29:19Z</dcterms:modified>
  <cp:revision>48</cp:revision>
  <dc:subject/>
  <dc:title>Slide 1</dc:title>
</cp:coreProperties>
</file>