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6D44-E9FE-4DC7-AC21-8D3B9DBE4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15DB-9B18-4EAE-A9BC-A7CC62950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1C88-5E63-4AE5-9FAD-2EC135DC5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5B03-8B72-4EE7-8F44-11D397AB7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4D3B-CF46-4569-A7BA-ECE2A84C7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F18B-C1B5-496B-B860-9D5577852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A9B2-B6D9-467F-AA8E-0789A1B9E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789B-8524-443F-A9DD-D07B799DE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B216-EE0D-4A09-AA1B-46A332642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F0E6-171B-437B-BBA7-74A7389BE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8BBD-D8D2-4A97-AA21-D0BC37488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7EEE-B5AD-4D18-ADBE-A20B48D3D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C81D-D830-4605-9EDA-69F4D6025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0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1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4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6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7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8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9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5"/>
          <p:cNvSpPr/>
          <p:nvPr/>
        </p:nvSpPr>
        <p:spPr>
          <a:xfrm>
            <a:off x="320040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tion I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cept Development in Mathematics and Scienc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914040" y="3809520"/>
            <a:ext cx="7467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it 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moting Young Children</a:t>
            </a:r>
            <a:r>
              <a:rPr b="0" lang="ja-JP" sz="3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 Concept Development through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blem-Solv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 Solving in Mathema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focus in the mathematics p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concrete operations period, children engage in more structured problem-solvin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major types of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 predictable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ou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more than one step and must be read carefu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 Solving in Sci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ent behavior, instead of a teaching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must create an environment in which problem solving can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olving is about asking and answer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ur Steps in Problem Solv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 problem and communicate it a way that can be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outcome of solving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possible solutions and apply them to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and revise possibl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 Solving and Inqui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f instruction in science and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-develope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-generate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zes children working independently and in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serves as a facilitator and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eps in Planning Concept Experien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sess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each child do and what does each child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each child individ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os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each child be able to learn n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ning Experi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istic experi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til the child is into the preoperationa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l instr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during the sensorimotor period and increase frequency during the preoperationa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paringly during sensorimotor and preoperational periods—brief and foc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the learning cycl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lecting Mater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hings to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good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r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-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more than one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fit the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developmentally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ed experiences put into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ing upon the concept being acquired, the time involved can v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alua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the child lea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ca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, structured questions an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l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s of naturalistic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t and careful evaluation avoids fru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8:05:17Z</dcterms:created>
  <dc:creator>changeme</dc:creator>
  <dc:description/>
  <dc:language>en-US</dc:language>
  <cp:lastModifiedBy>Elizabeth Ruark</cp:lastModifiedBy>
  <dcterms:modified xsi:type="dcterms:W3CDTF">2016-06-09T14:38:57Z</dcterms:modified>
  <cp:revision>76</cp:revision>
  <dc:subject/>
  <dc:title>Slide 1</dc:title>
</cp:coreProperties>
</file>