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3BE6-170F-4CAA-8210-E496CDE32DC5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9049-7854-40A1-BF80-2AAF48BF1C0F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2FBA-4764-483D-B8BF-DC9FCFC0310E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2E22-B653-4D78-A137-2CCDB758C037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6F92-0C2D-483A-881E-8CD75ABDA051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9A72-E48E-4E75-B6FF-E3B02B3FAC6D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CBDE-7A60-41A9-878C-2212467FA441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72F7-C4A4-4B45-AA48-69359BDEF54A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0A6E-71FB-4B5A-9801-657415F2BE19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B22B-0D37-4999-B791-A316C266BD5F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1EE6-639C-421A-8AFF-5E10B7A77424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0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1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4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7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9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20040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tion I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undamental Concepts and Skil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16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damental Concep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ts and Whole in Sc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children are used to identifying shapes, introdu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lateral symme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own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erfly w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ndamental Concepts in Sci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o-one correspo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sense and 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and classif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s and wh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-to-One Correspondenc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ci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ch animals to their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mber Sense and Count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ci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opportunity to count while doing scienc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quencing and Ordinal Posi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ci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offers many opportunities to reinforce these concepts such as observing lif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ts and Classify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ci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ify animals into groups: mammals, reptiles, amphib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ring in Sc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are the size of plants as they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ape in Sc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children learn that most things hav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ace in Sc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pace words when teaching science to young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05:17Z</dcterms:created>
  <dc:creator>changeme</dc:creator>
  <dc:description/>
  <dc:language>en-US</dc:language>
  <cp:lastModifiedBy>Elizabeth Ruark</cp:lastModifiedBy>
  <dcterms:modified xsi:type="dcterms:W3CDTF">2016-06-09T15:34:13Z</dcterms:modified>
  <cp:revision>72</cp:revision>
  <dc:subject/>
  <dc:title>Slide 1</dc:title>
</cp:coreProperties>
</file>