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96F0-4B7A-48A5-AAEE-82E09C386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CDC-0D15-46B2-AB95-845C0F38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475F-F13E-4F4E-BF22-9BAB10A3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7B6-975B-49BE-9D09-97981DFF4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5C9-5745-4826-AF38-2F02F44D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0EEF-9A5B-4B20-8EDF-C910335D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5B0-C474-4F71-8DA4-236019C5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B9A1-3C70-4F36-95F7-34C30DE0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2F1-58FD-4214-856E-BE41518C8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nning for Scienc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ating Scien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o the Curricul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ic and rhythm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ve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nning for Developing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ce Concep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what the childre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thoughts by we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he children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ppropriate activities to achieve your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evaluate the childre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earn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 and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statements that tell where you are heading with the topic or outcomes you would like to 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ow you plan to achieve you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you plan the experiences that will aid concep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cience pla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ongoing assessments of your teaching strategies and studen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recorde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or asking questions and interacting with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f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 journ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-based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ng the Unit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he unit to the child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ior knowledge and experi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variety of science process skills in the les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velopmentally appropriate science con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other subject are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ading and writing activities that align with the science con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naturalistic, informal, and directed (structured)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aluating the Unit Pl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 variety of strategies to engage children in active search for knowled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opportunities for investigation and problem sol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oth open-ended and narrow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ssessment strategies that provide a way to determine if children can apply what they have lear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ocal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42:47Z</dcterms:modified>
  <cp:revision>76</cp:revision>
  <dc:subject/>
  <dc:title>Slide 1</dc:title>
</cp:coreProperties>
</file>