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10AF-7B43-41E8-A3E5-36B2C34DE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B114-79B0-4A72-B633-4FED6E60E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F06-DD93-4C5F-845F-D989612B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3A35-E405-410F-8C39-24C79A20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83DD-5AAE-4DA9-8363-C256570D0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D33C-2C53-4AA9-9181-FAEF2232F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7D3B-B68F-4266-BF61-597C15707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DF92-35AB-413F-9E3F-8791AC5C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740-2C20-416E-A928-0DEAFA1F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3D1A-24CC-48B5-9866-200CD6AB5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3AD2-24B9-4839-AB97-BEA10929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C672-7C9B-492D-8342-BA565AB9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V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ing Skills, Concepts, and Attitudes for Scientific Investigations in the Primary Grad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in the Classr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cellent way to develop respect for and knowledge of the daily requirements of all forms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organisms should not suffer from too much or too littl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you know how to care for the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of the animal should begin before the animal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new animal a chance to acclimate to its new surrou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for Animals in the Classr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neither the children nor the animal are ha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local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tion children to never tease the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k medical attention immediately for bites or scr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fish from tanks in which all fish appear heal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rage children from bringing personal pets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Science in Primary Gra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ildren should develop an understand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cycles of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an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ildren can under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have basic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 can only survive in environments where their basic needs are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lant and animal have different structures that serve different functions in growth, survival, and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of organisms is influenced by internal and external c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and other organisms have senses that help them detect internal and external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Cycle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hildren should begin to under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nd animals have life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into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nd animals closely resemble their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ganisms and Their Environ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primary children will begin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nimals depend up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nimals eat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nimals eat animals that eat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t or anima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ehavior is related to the nature of thei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cause changes in the environment in which the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Science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things can be distinguished from non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nd animals are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nd plants affect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things have unique features that allow them to live in different kinds of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ving things need water, food, and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Science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s differ in size, color, shape, and 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s germinate and grow into specific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eeds grow inside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eeds grow into flowers, shrubs, and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eeds grow into food we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s are dispersed in several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s need water, light, and warmth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s and plants grow an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Science Concep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nd Pla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tend to grow toward the light, roots tend to grow toward the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s grow from seed, roots, and 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lants do not have seeds, roots, or 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lants grow in the light, some plants grow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lants change in differen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Science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od, water, shelter, and a unique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individual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unique adaptations to help them surv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hrough a life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s are animals that depend upon us for speci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kinds of p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kinds of pets need different kinds of care to grow and be heal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riums are places for fish and other living thing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31:11Z</dcterms:modified>
  <cp:revision>48</cp:revision>
  <dc:subject/>
  <dc:title>Slide 1</dc:title>
</cp:coreProperties>
</file>