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E226-1BDF-4B9C-97DD-260BF5DB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972-24BD-48EB-8C02-69B9D4C8E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6704-2D91-4C8B-96E8-45BD9363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5B85-DF2C-41CA-B2B3-9AEC005FB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A3A1-42CF-4C10-860E-6F3AC47A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6F64-7848-4CD1-B32D-D4A3745BF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103E-1333-4D78-8329-CBB534EB0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tion I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cept Development in Mathematics and Scien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Young Scientist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e Concept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ept Formation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ng Child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development of young children at their present level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children plenty of time to manipulate and exp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and experience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cess of Self-Reg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in naturally classifies and stor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roups related information together (sch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ew information conflicts with stored information, the child is in a state of dis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reates a teachabl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state, children actively seek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ufficient information is gathered to explain the conflict, the child returns to a state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repant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children in a state of disequilibrium prepares them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come cu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ant to know what is hap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dvantage of this part of the natural learning process to teach children what you want them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tegies that Encourage Inqui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a question about objects, organisms, and events in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nd conduct a simple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 simple equipment and tools to gather data and extend the s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ata to construct a reasonable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investigations and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essing Inquiry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is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4:42:05Z</dcterms:modified>
  <cp:revision>76</cp:revision>
  <dc:subject/>
  <dc:title>Slide 1</dc:title>
</cp:coreProperties>
</file>