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500E1-C7B0-4552-B2C9-ED0BDDEBEE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DD4AA-EBA8-4EB5-98D7-131DC7834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5B867-82DA-4D54-8F39-5EC1C2898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66794-3B65-4DFA-B3D7-5E5489457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07312-944C-457F-816D-059F539CC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ftr" idx="10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ftr" idx="11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ftr" idx="12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2"/>
          </p:nvPr>
        </p:nvSpPr>
        <p:spPr>
          <a:xfrm>
            <a:off x="3200040" y="6477120"/>
            <a:ext cx="2895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3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4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ftr" idx="6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ftr" idx="7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ftr" idx="8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ftr" idx="9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5"/>
          <p:cNvSpPr/>
          <p:nvPr/>
        </p:nvSpPr>
        <p:spPr>
          <a:xfrm>
            <a:off x="3200400" y="6477120"/>
            <a:ext cx="2895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tion III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pplying Fundamental Concepts, Attitudes, and Skill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914400" y="38862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it 21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lications of Fundamental Concepts in Preprimary Sci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rdering and Patter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 on the skills of comp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 science emphasis in shape, animals, color, and sound, to have children make or discover visual, auditory, and motor irregula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e the flannel board to create patterns using the sun, moon, and st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asure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art of any scientific investi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e sand and water to allow children to discover ways in which they ca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 containers by providing various containers from which they can p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aph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play information so that predictions, inferences, and conclusions can be m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the use of basic process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r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if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6T18:05:17Z</dcterms:created>
  <dc:creator>changeme</dc:creator>
  <dc:description/>
  <dc:language>en-US</dc:language>
  <cp:lastModifiedBy>Elizabeth Ruark</cp:lastModifiedBy>
  <dcterms:modified xsi:type="dcterms:W3CDTF">2016-06-09T15:32:25Z</dcterms:modified>
  <cp:revision>40</cp:revision>
  <dc:subject/>
  <dc:title>Slide 1</dc:title>
</cp:coreProperties>
</file>