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F10E-89F7-43C1-AC5A-F936D1432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5157-D1DC-4A9D-A5DD-9F18D6FCD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A4AD-C61F-4710-BCA7-6290F97D5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D882-20B3-4750-A5EC-3C3217BC3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F211-052A-4A62-9440-4F2CA0C53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ACCB-6E4D-4593-906F-6F2DD7E5E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A936-6A3A-429A-8BCD-6E21E3E04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2004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4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ce in the H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educatio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ce where children learn as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t laund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 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bi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walk in the backy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ily Involvement i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family members to find science in their h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entertainment does not have to be pa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been expanded to include all family members and careg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es on opening lines o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learning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ions fo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tting Families Involv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 a newsl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meetings that provide information and involve active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 students in the pla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fun days over several hours, so more families can be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family members volunteer in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one-on-one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work assignments to bring in things from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ogether small kits for children to take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idelines fo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ilies as Teach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istic and informal experiences are at the heart of home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ults should be positive role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patient and allow children the opportunity to explore, reflect, and construct concep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learn through repet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ldren learn through concrete experi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simple household items and waste materials for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aturalistic, informal, and structured home learning experi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ce Activiti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Famil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daily rout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cooking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the news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v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pic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va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05:17Z</dcterms:created>
  <dc:creator>changeme</dc:creator>
  <dc:description/>
  <dc:language>en-US</dc:language>
  <cp:lastModifiedBy>Elizabeth Ruark</cp:lastModifiedBy>
  <dcterms:modified xsi:type="dcterms:W3CDTF">2016-06-09T15:44:54Z</dcterms:modified>
  <cp:revision>46</cp:revision>
  <dc:subject/>
  <dc:title>Slide 1</dc:title>
</cp:coreProperties>
</file>