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032E-95A2-4C40-8532-C08AA2440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390B-F9F6-4FEA-AA0C-2247CA7D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F73-1EE4-4A0F-AFDB-F62A5B04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D391-042A-47EE-981D-B9D90817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8D1-0EBB-417A-BA1D-6F835124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9781-58EF-4C8A-815D-763E9292B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2377-57A6-49CA-A170-BAEC035E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AA08-6F2D-45CA-8294-EAC9E498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50E0-059E-481B-A3E4-741D1DBF6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E24E-2748-4819-8D0C-13006789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819-B6C4-4040-BE66-FB555AE3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373D-F23B-4CA5-A067-4121F2ACF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B214-C18F-4D55-8AB0-A8E54959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645A-2A6C-4396-8FFF-CCCED8A8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cience in A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viron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things in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l measurements out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and graph variou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use and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utdoo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in Action Outdo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ing 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oor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learn about wild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venger h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for Outdoor Le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urpose of the outdoor exper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ist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science concepts will be develop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ill be ta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alking needs to be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evaluate the experi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follow-up learning will be provi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ructional 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the potential to function as valuable concept-building materials for primary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ow children to apply basic conce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ote differences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ote differences in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ork with fractions, parts, and w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enhance concept skills in art, literacy, physical development, social studies, and socioemot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lock 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plenty of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blocks and other construction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veh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do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should be neatly arranged on low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ves should be marked with outline of block shape for easy clean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t Bl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made of good hard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beveled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moothly s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precis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ges of Block Pl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y blocks from place to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ows and lines of bloc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brid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4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imple enclo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5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patte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6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 structures and 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 for dramatic 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e 7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tructures that repres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 bui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Construction 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, hollow, wood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board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board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ocks Encourage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force children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demonstrate withi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odwork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hands-on experienc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odworking Ar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rdy workben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nough for tw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quality re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er children can use a greater variety of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rted pieces of soft wood, like 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44:11Z</dcterms:modified>
  <cp:revision>46</cp:revision>
  <dc:subject/>
  <dc:title>Slide 1</dc:title>
</cp:coreProperties>
</file>