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E96D-1B45-4E2D-9D47-0F405BA7C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0576-0D1A-401F-B9A5-F9B161F7A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A924-A5D4-4F40-BD90-B7334B56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FD50-3285-4D76-8D10-F124736D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3F1-D993-4A33-897E-79D81C6B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FD92-752C-418F-B612-17DE6BF4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998-B244-453E-8638-6B548101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5B3F-6E2A-4C39-9A19-64F84211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64D-C775-4393-BEF5-D386AE46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0F5A-0D5D-4896-9E16-AC74BA7E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570-E591-4D45-9307-AC7205AF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6B13-E753-4D4C-A268-28D6E25D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0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1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2000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4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6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fcbe1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7" descr="Wadsworth_Logo_RGB_JPG"/>
          <p:cNvPicPr/>
          <p:nvPr/>
        </p:nvPicPr>
        <p:blipFill>
          <a:blip r:embed="rId2"/>
          <a:stretch/>
        </p:blipFill>
        <p:spPr>
          <a:xfrm>
            <a:off x="0" y="6450120"/>
            <a:ext cx="1219320" cy="4078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9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5"/>
          <p:cNvSpPr/>
          <p:nvPr/>
        </p:nvSpPr>
        <p:spPr>
          <a:xfrm>
            <a:off x="320040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tion VI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sing Skills, Concepts, and Attitudes for Scientific Investigations in the Primary Grad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it 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th and Space Sci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can observe wat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po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water 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s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—water 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pp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children are intrigu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Primary Children Lear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th and Space Sci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king observations while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jor Role of Teachers in Primary Earth and Science Less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 children in obser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changes of all 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clic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s of the sun and m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st Children in Primary Y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rder and group objects by a single character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ake comparisons about thei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About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 variety of concret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rocks form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ed through cooling of magma or l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 r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ed from eroded rocks, sand, clay, silt, pebbles, compressed skeletons, shells, and dissolved chemic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ic r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ed when igneous and sedimentary rocks change in form through pressure and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aching About Fossils and Dinosa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can not grasp time spans represented by fossils and dinosa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ren need to know that dinosaurs existed long before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s of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that have turned to 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s trapped in tree 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i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Footer Placeholder 3"/>
          <p:cNvSpPr/>
          <p:nvPr/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2010 Cengage Learning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ther and the Seas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on these subjects are appropriate for primary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and study daily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 field trip to observe weather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 a weather 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05:17Z</dcterms:created>
  <dc:creator>changeme</dc:creator>
  <dc:description/>
  <dc:language>en-US</dc:language>
  <cp:lastModifiedBy>Elizabeth Ruark</cp:lastModifiedBy>
  <dcterms:modified xsi:type="dcterms:W3CDTF">2016-06-09T15:40:10Z</dcterms:modified>
  <cp:revision>48</cp:revision>
  <dc:subject/>
  <dc:title>Slide 1</dc:title>
</cp:coreProperties>
</file>