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E583-12C6-4A6D-AFF4-6B74BE25B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3E8E-8964-47BF-ABDF-A2480B383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0C74-4BCD-4601-B8B0-8511DCD5A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7D70-9A84-436C-8BD8-18629DE08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9E5C-DDE5-4AB5-B5F1-C0B0FA6B7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D727-F0BC-477D-A6C7-53F58F372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4760-88DB-45E4-88C7-ABF66BF6A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288D-9758-42B6-B302-56C70D448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6F34-E9CE-424A-BB09-01C92A81C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1EAF-4B10-4261-9853-1AE88257E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6F03-9041-43F0-AD26-DD577C9CC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0838-F6D6-4750-B505-E33DB0AE1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CFEF-020D-40B1-9D68-29069604D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FE1B-9E42-4D48-83E2-2BD2B96D7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F0CD-57AB-4061-B25C-44F6457B4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10CC-849F-48D2-B0E3-28918F516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39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erials and Resources for Sci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ience Learning Cen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y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learning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quiry learning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interest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lecting Materi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 variety of materials and time to explore the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s sho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turdy and vers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the outcome objective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the developmental level of the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easily superv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free of gender, ethnic, age, and socioeconomic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ning Your Ce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clear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the childre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developmental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must be able to participate in the activities and methods indepen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lecting Science Materi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materials that encourag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ing arou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materials open-en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materials designed for a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materials arranged to encourage commun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 variety of materi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e materials encourag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materials appropriate for the maturity of the child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e materials allow for individual differen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direction i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e materials stress process skil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materials nonbia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nsory Learning Cen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children the opportunity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three computers per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tegories of Materi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operational children work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objects used with pictorial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cut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operational children and some in transition can work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pe-off f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 and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rete Operations Peri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ncepts and skills should be introduc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rete manipulative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orial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ctorial Manipulative Materi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pictur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source of pictorial and languag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ies, poems, and pi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rich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teach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the use of science in various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childre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deas of how science can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Science Mate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ounged or contributed by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a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jun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x for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ercial Materials for 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sure illustrations accurately portray the concepts being ta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k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er k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rom most major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k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rom many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fit your specific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topic k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ed by topic and grad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drawbacks of k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ing the consum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ing the money to purchase the k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rchased Equipment for 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dro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 tu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and minera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ganizing and Storing Science Mate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 by concept being ta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e boxes or plastic co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lay a materials list on the outside of the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 by learning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in boxes under or near the science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earning Cen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tly place materials on low shelves for easy access by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 materials according to childre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needs and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focus centers when introducing specific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available to every child ever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5:43:21Z</dcterms:modified>
  <cp:revision>46</cp:revision>
  <dc:subject/>
  <dc:title>Slide 1</dc:title>
</cp:coreProperties>
</file>