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87A-17D7-4093-876B-F38E6914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036E-4E0E-47D7-8F70-2F616472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4479-9863-4539-AC83-5BBC0CA6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456-443F-459F-B67E-F97950BF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AF5B-0021-45F2-AB2B-293D22F9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144-FEB0-4D16-81E0-545D7F10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2BAB-FB35-4F4E-93A7-43AF4A77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D339-CB44-4A5C-9BAD-58782191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EB7B-2976-43A0-9D38-991CCFFD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7BB-D59A-489C-A55C-A0631A6B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033-8C21-46ED-B23C-376F5A60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A4C-CAF0-4F46-AEE7-FAA74C4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FDCC-5BE4-4121-B473-6F5D6D98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39DB-A755-42FA-AAF6-1CC83675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6A9-29DC-49DB-AC4E-45231A5C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E81B-011F-49F0-92C0-63655E1B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5000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2080" y="83808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5000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2080" y="3783600"/>
            <a:ext cx="24778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764D-CD20-499A-AEA5-615FD122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5A82-E1ED-4D8C-9AE1-852FFA8E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030-FDE9-4BE6-8CEE-B15B604E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518-424D-4B98-91A5-EE4B4031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-360"/>
            <a:ext cx="76960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2C53-97E5-417C-A71C-E0696EBC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17A-069F-4D4D-8D32-DDAE0B3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1720" y="378360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7FF-5972-43E9-8D0C-9D0D191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91720" y="838080"/>
            <a:ext cx="37555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3783600"/>
            <a:ext cx="7696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F09-3CB8-42CA-9AF8-C73AA39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7C3-59B5-44FE-A305-1398DDEFA06E}" type="slidenum">
              <a:rPr b="0" lang="en-US" sz="10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cf48c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cf48c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cf48c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6E91-838D-4D0E-A347-A64EE8579A5E}" type="slidenum">
              <a:rPr b="0" lang="en-US" sz="1000" spc="-1" strike="noStrike">
                <a:solidFill>
                  <a:srgbClr val="fcf48c"/>
                </a:solidFill>
                <a:latin typeface="Impac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57600" y="4952880"/>
            <a:ext cx="54100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700"/>
                </a:solidFill>
                <a:latin typeface="Arial Black"/>
              </a:rPr>
              <a:t>History and Nature of Science</a:t>
            </a:r>
            <a:endParaRPr b="0" lang="en-US" sz="40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4267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Science as a human endeavor shows: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Not every activity in science starts with a hypothesi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en teachers ask children to make a “guess” and children predict wrong and leave experience feeling science is unpredictable and difficult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Prediction is the term for K-3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Nature of Science Questions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K-2</a:t>
            </a:r>
            <a:r>
              <a:rPr b="1" lang="en-US" sz="3200" spc="-1" strike="noStrike" baseline="30000">
                <a:solidFill>
                  <a:srgbClr val="fcf48c"/>
                </a:solidFill>
                <a:latin typeface="Trebuchet MS"/>
              </a:rPr>
              <a:t>nd</a:t>
            </a: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 Grad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did you decide to try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How is that different than what other groups tried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other ways can you test that idea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3rd Grad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How many ways did our class develop to test this idea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learningscience.org</a:t>
            </a:r>
            <a:br>
              <a:rPr sz="3600"/>
            </a:b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920" y="11426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xplore your web based activit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rite how the activity supports science as a human endeavo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rite an individual reflection on the usability of website, the possible age range and its use in K-3 setting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Explore learningscience and get ready to share a discover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ebsite exploration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Oh, Dee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Nature of science addresses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science is..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How it works...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nd answers questions such as: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How is science similar or different from other human endeavors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And answers questions such as: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838080"/>
            <a:ext cx="76960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How durable is scientific knowledge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How do scientists do science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In what ways do culture and society affect scientists work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are the differences and similarities between basic science, applied science and technology?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K-4 Standard G: History and Nature of Science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cience as a human endeavor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Science as a Human Endeavor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Meet the –ologist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What are the tools of the trade? Make a list!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8700"/>
                </a:solidFill>
                <a:latin typeface="Arial Black"/>
              </a:rPr>
              <a:t>Science Misconceptions (Clough 1995) </a:t>
            </a:r>
            <a:endParaRPr b="0" lang="en-US" sz="32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Linear step by step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Complete objectivity neede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cience is discovered onl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cience is experimental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Data tells scientists what to think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cience does not involve creativit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New evidence quickly convinces the science communit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467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Science as a human endeavor is creative: 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re are many ways to do science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Scientists do not always follow a linear step by step proces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e creative process involves prior knowledge, novel questions, expectations, experience, colleagues, creativity, funding and technology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Science as a human endeavor shows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20570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Knowledge in science cannot be “proven” or absolutely “true”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Ask students to find evidence to support their ideas 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8700"/>
                </a:solidFill>
                <a:latin typeface="Arial Black"/>
              </a:rPr>
              <a:t>Science as a human endeavor demonstrates:</a:t>
            </a:r>
            <a:endParaRPr b="0" lang="en-US" sz="3600" spc="-1" strike="noStrike">
              <a:solidFill>
                <a:srgbClr val="8a87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47920" y="1905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hat not every activity in science is an “experiment” with variable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Many “investigations” are detailed observations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cf48c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48c"/>
                </a:solidFill>
                <a:latin typeface="Trebuchet MS"/>
              </a:rPr>
              <a:t>Terms need to be carefully used</a:t>
            </a:r>
            <a:endParaRPr b="1" lang="en-US" sz="3200" spc="-1" strike="noStrike">
              <a:solidFill>
                <a:srgbClr val="fcf48c"/>
              </a:solidFill>
              <a:latin typeface="Trebuchet MS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izabeth Ruark</cp:lastModifiedBy>
  <dcterms:modified xsi:type="dcterms:W3CDTF">2009-02-20T04:00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