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7D98-9600-45E6-A83A-790AFDBBA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5F0-9F9F-4540-B299-B4534C431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28DC-8563-4F30-878D-30E64D4F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0AD9-CF42-4AAE-B090-222E42C8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E744-09F5-4572-B20E-8A413F4F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DAE1-2FD2-4029-ACDF-5430397D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EB8C-E5D5-4DC5-8085-7158FF244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V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ing Skills, Concepts, and Attitudes for Scientific Investigations in the Primary Grad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vironmental Awaren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ce in Personal and Social Perspectives Stand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are expected to develop an understand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and changes in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ce and technology in local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jor Role of Teachers in Primary Environmental Awar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uide children in investigating and gaining an understanding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and changes within the local and regiona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available in our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our decisions make an impact on the availability of thos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Common Approaches to Environmental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warenes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child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feelings and appreciation of the world around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vironmental Concep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s ideas that will lead to learning about environmental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erv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ies for children to take action and see a result of th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vironmental Awareness Defini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e, conditions, and factors that affect an individua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bility to surv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thing that can fill a 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resources include coal an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recovering used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for Primary Environmental Awar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hanges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30:11Z</dcterms:modified>
  <cp:revision>48</cp:revision>
  <dc:subject/>
  <dc:title>Slide 1</dc:title>
</cp:coreProperties>
</file>