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5512-7B3A-4403-A7E1-0BEBECCDC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6F01-15CC-4184-9D08-FB8F6C263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6434-6D25-4673-A157-28FEC2ED0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59D4-16F6-49D6-A779-DD0E7FAA9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4A1A58-9E6D-4E19-BD81-218DBF8F3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A4FCD1-AB66-4474-8F4E-A23BA6B31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871F31-771F-4C23-981A-ADF0ECF3D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7C653F-97FC-4983-8568-8D26A154D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2AA6A3-AF85-418C-A52D-AB46A4149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A94AE5-63B9-4678-B4D3-0FE19BA59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3628C8-D945-4B3F-9AAA-775D7250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98AA-E617-4F05-985A-49454B74A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B58E6C-914F-41E7-A512-A61E13AE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BC5C44-7078-499D-BA76-4837F52F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69EF3B-4EE6-4289-BB5F-BA86248E6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6E5B90-8CC6-461F-972B-76883302A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3967B0-F623-44CC-BED6-EEC987F08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0396-AA7F-47B1-A527-754D83056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604F-C8CC-408F-A5B1-03B79A93E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0FC2-B0A5-49F4-9B76-0EF542548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F97E-E2F8-4BF7-9AAA-ED7A20A01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E4A9-0144-47B6-81C9-96348103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2E5C-5C4B-4EF7-BAD3-2F15195F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269A-0ABC-46E2-B4AC-E3216812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B995E-FCE7-42B6-9AC4-F5C8236EC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BC736-C01E-4D2A-995C-4FC4B016E26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685800"/>
            <a:ext cx="9144000" cy="291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EARTH SCIENCE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2743200" y="2971800"/>
            <a:ext cx="33526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kie fun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304920" y="358128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"/>
          <p:cNvPicPr/>
          <p:nvPr/>
        </p:nvPicPr>
        <p:blipFill>
          <a:blip r:embed="rId2"/>
          <a:stretch/>
        </p:blipFill>
        <p:spPr>
          <a:xfrm>
            <a:off x="3962520" y="4419720"/>
            <a:ext cx="990360" cy="990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"/>
          <p:cNvPicPr/>
          <p:nvPr/>
        </p:nvPicPr>
        <p:blipFill>
          <a:blip r:embed="rId3"/>
          <a:stretch/>
        </p:blipFill>
        <p:spPr>
          <a:xfrm>
            <a:off x="4952880" y="838080"/>
            <a:ext cx="2857680" cy="1791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"/>
          <p:cNvPicPr/>
          <p:nvPr/>
        </p:nvPicPr>
        <p:blipFill>
          <a:blip r:embed="rId4"/>
          <a:stretch/>
        </p:blipFill>
        <p:spPr>
          <a:xfrm>
            <a:off x="5181480" y="350532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"/>
          <p:cNvPicPr/>
          <p:nvPr/>
        </p:nvPicPr>
        <p:blipFill>
          <a:blip r:embed="rId5"/>
          <a:stretch/>
        </p:blipFill>
        <p:spPr>
          <a:xfrm>
            <a:off x="533520" y="60948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"/>
          <p:cNvPicPr/>
          <p:nvPr/>
        </p:nvPicPr>
        <p:blipFill>
          <a:blip r:embed="rId6"/>
          <a:stretch/>
        </p:blipFill>
        <p:spPr>
          <a:xfrm>
            <a:off x="3619440" y="2957400"/>
            <a:ext cx="1905120" cy="9432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Taconite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1109520" y="838080"/>
            <a:ext cx="692496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-1238400" y="-504720"/>
            <a:ext cx="11620800" cy="78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2190600" y="1671480"/>
            <a:ext cx="4762800" cy="35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JELLO FUN!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4674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deathvalley_0083"/>
          <p:cNvPicPr/>
          <p:nvPr/>
        </p:nvPicPr>
        <p:blipFill>
          <a:blip r:embed="rId1"/>
          <a:stretch/>
        </p:blipFill>
        <p:spPr>
          <a:xfrm>
            <a:off x="762120" y="571680"/>
            <a:ext cx="7238880" cy="54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ocks and Mineral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many kinds of ro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cks slowly change by wearing a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umbled rocks and dead plants make so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ld plants and animals left prints in ro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nerals form cryst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ocks and Minerals Questio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 rocks look when dry or we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rocks are hard? Which rocks are sof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we find rocks that are alike in some way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can we wear away bits of rock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ocks and Minerals Questio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you draw with rock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can you tell rocks have chang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soi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are crystals form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ock and Mineral Activiti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ine gra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rdness and soft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lverizing rock to compare with so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re a broken rocks fresh surface with a worn exteri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ock and Mineral Activiti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fossi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rt soil using a sie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e salt cryst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idea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ock Song!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6" name="Picture 8" descr=""/>
          <p:cNvPicPr/>
          <p:nvPr/>
        </p:nvPicPr>
        <p:blipFill>
          <a:blip r:embed="rId1"/>
          <a:stretch/>
        </p:blipFill>
        <p:spPr>
          <a:xfrm>
            <a:off x="2190600" y="1643040"/>
            <a:ext cx="47628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is in the bag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ural Re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new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 renew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lizabeth Ruark</cp:lastModifiedBy>
  <dcterms:modified xsi:type="dcterms:W3CDTF">2016-06-09T22:00:40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