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9A4-87F7-40EE-B270-85890741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6A-837B-48A0-9684-B1E3D0E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ED4-4AE0-4C70-B471-7C857AB5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948-19EA-48C5-847D-AD7D196B2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C6C-060A-4A5F-A7F4-184B7216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3AFF-BD41-4014-8759-91616350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1C9D-AB9A-45B8-AF35-FE260782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C607-28C5-4F8B-B1F5-61C415B4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0957-6015-4066-9B97-F4435AE5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951-BACB-40E8-BF32-94ECB323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1396-AE12-48AB-A14F-92648477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C4C-4EAF-40E1-99DC-F868210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186E-8F86-46EA-A3F7-BE785A90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5387-B098-456A-BBF9-FDA1EEF4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5C4F-BB4B-4A62-A68B-3DB30B6E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CC76-973C-49B0-85D0-EB8DE2469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3ADFF-1503-483A-B7CA-ACB211A9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314F-B29C-4131-8F00-E3FFD75B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109F-427B-43DF-86F9-84F92298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C77-FCFB-4065-94A1-63D2D7DB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71F-3D11-47CE-936B-4F1B9F9C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4BC2-68AD-484F-8A8C-B76A9427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A19-54EB-4FE6-BC93-47466F26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A35C-CDC0-4A33-A628-3C4E5324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4080" y="-21240"/>
            <a:ext cx="2869560" cy="3275280"/>
            <a:chOff x="6274080" y="-21240"/>
            <a:chExt cx="286956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4080" y="-21240"/>
              <a:ext cx="2869560" cy="2268720"/>
              <a:chOff x="6274080" y="-21240"/>
              <a:chExt cx="2869560" cy="226872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4080" y="-21240"/>
                <a:ext cx="2866320" cy="2268720"/>
                <a:chOff x="6274080" y="-21240"/>
                <a:chExt cx="2866320" cy="226872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440" cy="1140840"/>
                  <a:chOff x="7834320" y="842760"/>
                  <a:chExt cx="106344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524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7080" y="1603440"/>
                    <a:ext cx="47160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6480" y="695880"/>
                  <a:ext cx="1303920" cy="668880"/>
                  <a:chOff x="7836480" y="695880"/>
                  <a:chExt cx="1303920" cy="66888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1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3680" y="1037160"/>
                    <a:ext cx="45684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5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6040" y="798480"/>
                    <a:ext cx="42516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840" y="419760"/>
                  <a:ext cx="984240" cy="326880"/>
                  <a:chOff x="7845840" y="419760"/>
                  <a:chExt cx="98424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7360"/>
                    <a:ext cx="63576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760" y="456480"/>
                    <a:ext cx="339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9400" y="905400"/>
                  <a:ext cx="1061280" cy="1142280"/>
                  <a:chOff x="6539400" y="905400"/>
                  <a:chExt cx="1061280" cy="114228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920" y="1194120"/>
                    <a:ext cx="88020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9200" y="1665720"/>
                    <a:ext cx="4716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6480" cy="1052280"/>
                  <a:chOff x="6303960" y="861840"/>
                  <a:chExt cx="1266480" cy="105228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5120" y="1112040"/>
                    <a:ext cx="9284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7040" y="827280"/>
                  <a:ext cx="1287720" cy="828720"/>
                  <a:chOff x="6287040" y="827280"/>
                  <a:chExt cx="128772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23000"/>
                    <a:ext cx="47736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4080" y="787320"/>
                  <a:ext cx="1302120" cy="668520"/>
                  <a:chOff x="6274080" y="787320"/>
                  <a:chExt cx="13021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4280"/>
                    <a:ext cx="46152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920" cy="416160"/>
                  <a:chOff x="6338880" y="749520"/>
                  <a:chExt cx="122292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600" y="801720"/>
                    <a:ext cx="79200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3520"/>
                    <a:ext cx="4251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5200"/>
                    <a:ext cx="72036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5480" cy="809280"/>
                  <a:chOff x="7287480" y="-21240"/>
                  <a:chExt cx="465480" cy="80928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560" y="461160"/>
                    <a:ext cx="540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3800" y="61200"/>
                    <a:ext cx="2959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600"/>
                  <a:ext cx="964080" cy="461160"/>
                  <a:chOff x="7792920" y="273600"/>
                  <a:chExt cx="964080" cy="4611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400"/>
                    <a:ext cx="6303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4920" y="329760"/>
                    <a:ext cx="3315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7520"/>
                  <a:ext cx="916560" cy="604440"/>
                  <a:chOff x="7737840" y="137520"/>
                  <a:chExt cx="91656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61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8720" y="212760"/>
                    <a:ext cx="3348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6200" y="-11160"/>
                  <a:ext cx="497520" cy="790560"/>
                  <a:chOff x="766620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5320" y="467280"/>
                    <a:ext cx="54180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160" y="79200"/>
                    <a:ext cx="2941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30600"/>
                  <a:ext cx="915120" cy="1247760"/>
                  <a:chOff x="6711120" y="930600"/>
                  <a:chExt cx="915120" cy="124776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4760" y="1259280"/>
                    <a:ext cx="891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04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400" cy="1248120"/>
                  <a:chOff x="7014960" y="979200"/>
                  <a:chExt cx="61740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7600" y="1311120"/>
                    <a:ext cx="825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1480"/>
                    <a:ext cx="4374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320" cy="1217520"/>
                  <a:chOff x="7311960" y="1001160"/>
                  <a:chExt cx="364320" cy="121752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7320"/>
                    <a:ext cx="78444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200" y="1877400"/>
                    <a:ext cx="42120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960" cy="1262160"/>
                  <a:chOff x="7786800" y="956160"/>
                  <a:chExt cx="73296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468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240" y="1351800"/>
                    <a:ext cx="82188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64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400"/>
                  <a:ext cx="290520" cy="1156320"/>
                  <a:chOff x="7733880" y="1058400"/>
                  <a:chExt cx="290520" cy="115632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5400" y="1375920"/>
                    <a:ext cx="751320" cy="12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120" y="1899000"/>
                    <a:ext cx="40860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240" y="1077840"/>
                  <a:ext cx="277200" cy="1131480"/>
                  <a:chOff x="7500240" y="1077840"/>
                  <a:chExt cx="27720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240" y="1403640"/>
                    <a:ext cx="7423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7280" y="1927800"/>
                    <a:ext cx="3974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64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98F-5578-4EDB-9579-0A09516F2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6160"/>
              <a:ext cx="945720" cy="709920"/>
              <a:chOff x="3484080" y="95616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616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792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480" cy="5452200"/>
                <a:chOff x="2010960" y="245160"/>
                <a:chExt cx="689148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4320"/>
                  <a:ext cx="3599280" cy="2650680"/>
                  <a:chOff x="3735720" y="1264320"/>
                  <a:chExt cx="3599280" cy="265068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4320"/>
                    <a:ext cx="3599280" cy="2650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5960"/>
                    <a:ext cx="712440" cy="496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480" cy="5452200"/>
                  <a:chOff x="2010960" y="245160"/>
                  <a:chExt cx="689148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080" y="2321280"/>
                    <a:ext cx="2559240" cy="2739960"/>
                    <a:chOff x="5761080" y="2321280"/>
                    <a:chExt cx="2559240" cy="273996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600" y="3019320"/>
                      <a:ext cx="212868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18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360" y="2144160"/>
                    <a:ext cx="3040200" cy="2529720"/>
                    <a:chOff x="5787360" y="2144160"/>
                    <a:chExt cx="304020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47520"/>
                      <a:ext cx="223560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360" y="371736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120" y="2061000"/>
                    <a:ext cx="3097440" cy="1994040"/>
                    <a:chOff x="5775120" y="2061000"/>
                    <a:chExt cx="3097440" cy="19940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6680" y="251676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324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7040"/>
                    <a:ext cx="3134520" cy="1608840"/>
                    <a:chOff x="5767920" y="1967040"/>
                    <a:chExt cx="3134520" cy="160884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6280"/>
                      <a:ext cx="20674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69840"/>
                      <a:ext cx="1110600" cy="650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4880"/>
                    <a:ext cx="2939040" cy="1002960"/>
                    <a:chOff x="5805720" y="1874880"/>
                    <a:chExt cx="2939040" cy="100296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0880"/>
                      <a:ext cx="190368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5640" y="2208240"/>
                      <a:ext cx="102312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4400"/>
                    <a:ext cx="2658600" cy="442800"/>
                    <a:chOff x="5851440" y="1814400"/>
                    <a:chExt cx="2658600" cy="44280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4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920"/>
                      <a:ext cx="929520" cy="41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2480"/>
                    <a:ext cx="2364120" cy="784080"/>
                    <a:chOff x="5788440" y="1302480"/>
                    <a:chExt cx="236412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4880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1040"/>
                      <a:ext cx="816480" cy="41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1760"/>
                    <a:ext cx="2557440" cy="2740320"/>
                    <a:chOff x="2646000" y="2471760"/>
                    <a:chExt cx="2557440" cy="27403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960" y="3169080"/>
                      <a:ext cx="2126880" cy="38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720" y="4292280"/>
                      <a:ext cx="11412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4040" y="2365920"/>
                    <a:ext cx="3039480" cy="2531520"/>
                    <a:chOff x="2084040" y="2365920"/>
                    <a:chExt cx="3039480" cy="25315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920" y="2968560"/>
                      <a:ext cx="223416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7920" y="3940200"/>
                      <a:ext cx="1199880" cy="67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78080"/>
                    <a:ext cx="3097080" cy="1992240"/>
                    <a:chOff x="2040120" y="22780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38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585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5560"/>
                    <a:ext cx="3134520" cy="1607400"/>
                    <a:chOff x="2010960" y="2185560"/>
                    <a:chExt cx="3134520" cy="160740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960" y="2494800"/>
                      <a:ext cx="206784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88360"/>
                      <a:ext cx="1110600" cy="64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7920" y="2093400"/>
                    <a:ext cx="2937240" cy="1004040"/>
                    <a:chOff x="2167920" y="2093400"/>
                    <a:chExt cx="2937240" cy="10040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3480" y="2219400"/>
                      <a:ext cx="1903680" cy="38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3920" y="2426760"/>
                      <a:ext cx="1023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7880"/>
                    <a:ext cx="2658600" cy="448920"/>
                    <a:chOff x="2403720" y="2027880"/>
                    <a:chExt cx="2658600" cy="44892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460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040"/>
                      <a:ext cx="929520" cy="42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480" y="1518480"/>
                    <a:ext cx="2364120" cy="789120"/>
                    <a:chOff x="2760480" y="1518480"/>
                    <a:chExt cx="2364120" cy="7891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3880" y="1869480"/>
                      <a:ext cx="15202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920" y="1607040"/>
                      <a:ext cx="816120" cy="42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5520"/>
                    <a:ext cx="2323440" cy="1081800"/>
                    <a:chOff x="2887560" y="1235520"/>
                    <a:chExt cx="2323440" cy="108180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4320" y="17848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69440"/>
                      <a:ext cx="8161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520" y="828000"/>
                    <a:ext cx="2169720" cy="1505880"/>
                    <a:chOff x="3161520" y="828000"/>
                    <a:chExt cx="2169720" cy="150588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682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19880"/>
                      <a:ext cx="816120" cy="41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6920" y="435600"/>
                    <a:ext cx="1987920" cy="1828080"/>
                    <a:chOff x="3436920" y="435600"/>
                    <a:chExt cx="1987920" cy="182808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49688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640" y="665640"/>
                      <a:ext cx="8283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8400" y="324000"/>
                    <a:ext cx="1461240" cy="1896120"/>
                    <a:chOff x="4028400" y="324000"/>
                    <a:chExt cx="1461240" cy="189612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1800"/>
                      <a:ext cx="135756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3800" y="534600"/>
                      <a:ext cx="72828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3200" cy="1947600"/>
                    <a:chOff x="4448160" y="245160"/>
                    <a:chExt cx="1123200" cy="19476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1840"/>
                      <a:ext cx="1308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480" y="440640"/>
                      <a:ext cx="70308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48240"/>
                    <a:ext cx="2318760" cy="1112400"/>
                    <a:chOff x="5661720" y="948240"/>
                    <a:chExt cx="23187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1920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960" y="1086480"/>
                      <a:ext cx="81756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19920"/>
                    <a:ext cx="2202120" cy="1452600"/>
                    <a:chOff x="5529600" y="619920"/>
                    <a:chExt cx="2202120" cy="14526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4160"/>
                      <a:ext cx="15199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5200" y="804600"/>
                      <a:ext cx="817560" cy="41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040" y="1461600"/>
                    <a:ext cx="126612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840" y="533520"/>
                    <a:ext cx="68004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8240" y="267840"/>
                    <a:ext cx="1191600" cy="1897560"/>
                    <a:chOff x="5358240" y="267840"/>
                    <a:chExt cx="1191600" cy="18975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9680" y="141264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4560" y="484200"/>
                      <a:ext cx="70452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0320" y="381240"/>
                    <a:ext cx="1890000" cy="1797480"/>
                    <a:chOff x="5350320" y="381240"/>
                    <a:chExt cx="1890000" cy="179748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9880" y="1381320"/>
                      <a:ext cx="142704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680" y="577800"/>
                      <a:ext cx="767160" cy="52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9040" y="290160"/>
                    <a:ext cx="425160" cy="1794960"/>
                    <a:chOff x="5459040" y="290160"/>
                    <a:chExt cx="425160" cy="179496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6880" y="1441800"/>
                      <a:ext cx="117792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1040" y="53100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26840"/>
                    <a:ext cx="2194560" cy="3005280"/>
                    <a:chOff x="3062880" y="2526840"/>
                    <a:chExt cx="2194560" cy="30052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5320" y="3313080"/>
                      <a:ext cx="213084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03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0800" y="2646720"/>
                    <a:ext cx="1481400" cy="3003120"/>
                    <a:chOff x="3790800" y="2646720"/>
                    <a:chExt cx="1481400" cy="30031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6440" y="3438000"/>
                      <a:ext cx="1967400" cy="38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2920" y="4745160"/>
                      <a:ext cx="10555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7200" y="2694600"/>
                    <a:ext cx="876960" cy="2932560"/>
                    <a:chOff x="4507200" y="2694600"/>
                    <a:chExt cx="876960" cy="293256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4920" y="3482280"/>
                      <a:ext cx="189144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4920"/>
                      <a:ext cx="10126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79320"/>
                    <a:ext cx="2279880" cy="2955600"/>
                    <a:chOff x="5678280" y="2479320"/>
                    <a:chExt cx="2279880" cy="29556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47560"/>
                      <a:ext cx="212868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6400"/>
                      <a:ext cx="114012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320" y="2591280"/>
                    <a:ext cx="1757520" cy="3031200"/>
                    <a:chOff x="5647320" y="2591280"/>
                    <a:chExt cx="1757520" cy="303120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3000"/>
                      <a:ext cx="203400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8160"/>
                      <a:ext cx="1089000" cy="57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06840"/>
                    <a:ext cx="1229040" cy="2990520"/>
                    <a:chOff x="5576040" y="2706840"/>
                    <a:chExt cx="1229040" cy="29905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3916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9880" y="4880520"/>
                      <a:ext cx="106128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6800"/>
                    <a:ext cx="696600" cy="2783520"/>
                    <a:chOff x="5521320" y="2836800"/>
                    <a:chExt cx="696600" cy="27835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432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4480" y="4866120"/>
                      <a:ext cx="97488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5120" y="2882520"/>
                    <a:ext cx="663840" cy="2719800"/>
                    <a:chOff x="4965120" y="2882520"/>
                    <a:chExt cx="663840" cy="271980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4200" y="3661920"/>
                      <a:ext cx="1776240" cy="23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8520" y="4928760"/>
                      <a:ext cx="951480" cy="36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4400" y="677880"/>
                <a:ext cx="6732720" cy="4525200"/>
                <a:chOff x="2174400" y="677880"/>
                <a:chExt cx="6732720" cy="452520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4400" y="677880"/>
                  <a:ext cx="6732720" cy="4525200"/>
                  <a:chOff x="2174400" y="677880"/>
                  <a:chExt cx="6732720" cy="452520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1760"/>
                    <a:ext cx="3166560" cy="2526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400" y="2268000"/>
                    <a:ext cx="2486880" cy="29350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8880"/>
                    <a:ext cx="1758240" cy="2936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400" y="1293480"/>
                    <a:ext cx="3133440" cy="29386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400" y="677880"/>
                    <a:ext cx="228276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2000"/>
                    <a:ext cx="940680" cy="2842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0880"/>
                    <a:ext cx="515160" cy="1879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560" y="2180520"/>
                  <a:ext cx="546120" cy="103284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35120"/>
              <a:ext cx="6411960" cy="4712040"/>
              <a:chOff x="2343960" y="735120"/>
              <a:chExt cx="6411960" cy="47120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5908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603520"/>
                <a:ext cx="2617200" cy="284364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45600"/>
                <a:ext cx="1534320" cy="293616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61840"/>
                <a:ext cx="2930760" cy="293616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74040"/>
                <a:ext cx="46980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60360"/>
                <a:ext cx="1238040" cy="293616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71560"/>
                <a:ext cx="598320" cy="1825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7200" y="2970720"/>
                <a:ext cx="54360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408480"/>
                <a:ext cx="133848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21280"/>
                <a:ext cx="858240" cy="1880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3200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33360"/>
                <a:ext cx="1872360" cy="1316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35120"/>
                <a:ext cx="819000" cy="1769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78000"/>
                <a:ext cx="542880" cy="1032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92D7-2FB7-47C7-9231-418677DB5D49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troduction to Sci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5 E</a:t>
            </a:r>
            <a:r>
              <a:rPr b="0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g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ai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te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valua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3" name="Picture 2" descr="E:\RUARK\OJED 4201\The Learning Cycle as a Tool for Planning Science Instruction_files\lcpic.jpg"/>
          <p:cNvPicPr/>
          <p:nvPr/>
        </p:nvPicPr>
        <p:blipFill>
          <a:blip r:embed="rId1"/>
          <a:stretch/>
        </p:blipFill>
        <p:spPr>
          <a:xfrm>
            <a:off x="1219320" y="1219320"/>
            <a:ext cx="43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ag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nerate curiosity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aise questions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icit responses: what do they already know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dentify misconceptions in students understand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should be asking ques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gage Activ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ildren's literatur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iscrepant even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orytell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e play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lo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without direct instruct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acher is facilitator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to frame questions by asking questions and observ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sing Piaget's theory, this is the time for disequilibrium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lore Activ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should be puzzl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st predictions and hypotheses and/or form new on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ry alternatives and discuss them with pe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cord observations and ide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uspend judgment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lai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explain concepts in their own wor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k for evidence and clarification of their explan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plain Activ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listen critically to one another's explanat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should use observations and recordings in their explana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eacher provide definitions and explanations using students' previous experiences as a basis for this discussion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5880" indent="-3358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t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should apply concepts and skills in new (but similar) situations and use formal labels and defini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mind students of alternative explanations and to consider existing data and evidence as they explore new situation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tend Activ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use previous information to ask questions, propose solutions, make decisions, experiment, and record observation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ience Autobiograph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have been your experiences as a student of science either in or out of school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does it mean to do science?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aluat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ould take place throughout the learning exper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bserve students knowledge and/or skill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hange in think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should assess their own lea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valuate Activit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k open-ended questions look for answers that use observation, evidence, and previously accepted explanations. Ask questions that would encourage future investigation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ssessing the chil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bserv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Questioning as the child work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ferencing with child/interviewing chil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rtfolios- collection of child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work over tim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fective development checklis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cience journ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ildren's self assessmen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S Defini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ience content: national standar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ience as inquir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Physical sc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fe sc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arth and spa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ience and technolog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cience in personal and social perspecti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-3052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istory and nature of sci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ientific Attitu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urios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ithholding judgmen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kepticis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bjectiv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pen-mindednes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voiding gullibil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aking careful conclus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495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ecking evide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ositive approach to failu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ositive self im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illingness to chan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Positive attitude toward chan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voiding superstitio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tegrity &amp; humilit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ience process skil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bserv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ar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lassify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asur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unica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ferr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redict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pothesiz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efining &amp; controlling variabl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fferent types of learning experienc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aturalistic- environment, sensor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structivist- child initiated comments/questions from peers, adult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ructured - adult initiated, preplann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cience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wareness- experience, attend, percei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xploration- observe, discover, create personal mea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quiry- examine, investigate, focus, generalize, relate to prior learning &amp; to others</a:t>
            </a:r>
            <a:r>
              <a:rPr b="0" lang="ja-JP" sz="32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view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5360" indent="-31536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tilization- apply learning in many way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trategies for teaching childre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5 Es model (learning cycle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operative lea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stioning/Using children</a:t>
            </a:r>
            <a:r>
              <a:rPr b="0" lang="ja-JP" sz="32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 questi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ssuming different teaching rol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4:45:04Z</dcterms:created>
  <dc:creator>atuti</dc:creator>
  <dc:description/>
  <dc:language>en-US</dc:language>
  <cp:lastModifiedBy>Elizabeth Ruark</cp:lastModifiedBy>
  <dcterms:modified xsi:type="dcterms:W3CDTF">2016-06-08T01:54:11Z</dcterms:modified>
  <cp:revision>33</cp:revision>
  <dc:subject/>
  <dc:title>Different types of learning experiences</dc:title>
</cp:coreProperties>
</file>